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0DB2-5495-4CE1-B114-149E86DB2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BCE4-A437-4D9D-A1E2-BCEF3E7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7F5B3-EF21-4C93-9490-35966A4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5631A-738A-4964-AB22-AAD36AF2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5772C-30BC-4877-8605-F84FA386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8DF2A-8ACD-4D7C-B7EC-00FA7861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BAB39-65E0-43F9-8BC5-91DBEF1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CB2CD-13C2-42E6-8707-F7E148F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71D001-F100-4383-B2BB-34D1FBB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0C667-7321-41BE-B579-8CB686A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18E42-5A18-4E41-9D67-5B06BCFBB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49B0-42BD-4C1C-A9DC-CBCABB1226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042C-CEB2-410F-A05D-F51EC3B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1A26D-68A5-4767-96CC-A235F64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CB60C-5D63-4B4A-B925-6DEE7051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F683-9F4F-4C84-A111-DF9D82C7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E3BB-1642-4476-8CE4-FFF6CF9F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C73A-7FC1-4903-9277-45C38096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565E-6984-4B0A-8954-7D621CC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8F90-8CD2-41D2-9417-02664DCC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BBF0-A621-4CC7-8FA4-4CF4690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3108-9680-4F5F-9897-FDCFC45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3F8C6-CB36-482B-8066-F169065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5D04-0891-4DCA-A9F8-BDF52F446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5436-D0E4-4982-8C3A-B4E711DAA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95CFF-76ED-44C7-80B5-A4E7497B2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D4A0F-05E9-449A-ACD0-ADB1309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B1F07-CE3F-4CC5-AEDE-ECEFDB5F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DF13B-FE41-4072-BA71-1098D3CF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47BFA-409B-4697-9736-1B28146D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5E8DA-0BD5-442B-865F-A320B37A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4454F-34F0-48EB-A3EC-1D3B6F4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F2520-B017-46B4-9133-46444BDA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8E696-2514-40A2-AA32-392F85D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30F22-CE03-4D43-9D00-3A51588F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6641C-6F1E-413B-985F-4F01853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9ECEF-A0DD-429F-9D41-2E285D9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528DE3-D1CD-4E16-BAA8-03AC772AD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ADE02-9D16-4226-90FD-F2E3747FA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F369C-8F12-4098-9836-A2ED98C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6D31F-824D-4CC4-9766-D210497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3BAA8-A597-45F1-BB97-A397BE3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4FCA2-D0ED-4E8F-8B91-2702990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D2FDE-81AA-43EA-A8E2-AAC610DD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3C996-07C1-40F4-A0E0-A8CF9E3A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D7A6E-7413-4E19-A632-C0AA2CEB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57DB2-3C78-4EB3-BFC8-83E274B7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C8A66-D9F6-4D7B-90EE-40FF6A70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1489A-1FB3-4190-866D-BE20050B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8A5F2-8649-41AC-BC06-8A30256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28674-FA1E-48A4-B709-6EAF7F26C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5CFB2-5171-44BD-B2CC-6634C14CE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C17FA-E88B-401F-96A7-E15DA6F0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B2A76-AC85-4492-B447-5D5EDBE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411C6-903B-4873-9A38-846FA05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8AD3-97C1-44E7-BFB1-315FEA3F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80E6-4815-4BF8-8282-3231EBA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92E5F-E342-4C16-BF81-A22DACBA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6575-231B-4DFF-8CF8-C49EA0BC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E1362-DB49-4B45-9DC1-1888669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F0C2B-DF26-4892-8976-D1710FF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FCF5E-2984-40EF-990F-67D1248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3454B-F87D-44CB-BB4C-3893258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54B1-635C-4046-B37C-925FFB127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D179-EB28-4833-9465-30AD06A0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96934-1809-4899-9AE3-A630FAE5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7AB6E-B2A1-418C-B505-C43A71B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EB34-EB8F-4E08-AD84-3322180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68D47-E862-4F48-BF5A-64E6ADCE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687E5-E535-427B-98D7-8AF3F1FF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A3BFF-703F-4C43-9599-ABCE4A5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A3BAB-D2DB-48F1-B630-1EE5E6A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5DEA9-090D-4E2D-B166-61029A4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AA308-DFC7-4F7F-8E6B-E9C1680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8F387-9727-4A1D-8E6C-9E7B780A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E7A7F-BC38-40EB-9506-C53CF826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202A9-80C7-4315-BE78-FF15A1E7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BE970-9357-4672-917F-1E71F018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E0874-49CA-4CEF-B82E-CDDD76F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2FEA-868B-405F-9765-1A3D3A63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BA776-980E-4EB2-93FA-05F529C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DA7B-062B-4B22-A165-3E52FA1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81F2-2838-4F62-A6FA-647AC36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E48F-1883-459B-8F72-FF7748B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8797-F29C-4993-B438-C9BF153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9238A-32F1-4FB5-A73B-AE48581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C5E5B-6C97-43A8-91C1-CBEC254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34ED2-CA40-46E8-A2F0-95D2307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1B63-5099-43A8-8403-BAF6CC6E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C0732-EB49-406E-95BF-3A215EED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D87B4-9337-44A7-9316-D73ADDEE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A6498-66EE-4A0B-8040-6AD9AE7A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FA6E9-06CB-422D-8A70-E6B4EF5C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46099-4E08-4FD1-A25D-EE42F33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23655-6F26-47A2-B7B7-FBDF80B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61C13-1B6D-40CE-A6B9-9B29DFD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79A62-9247-4E6D-A08F-1386F2B4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4963A-612D-47CC-84D0-DCE6EBF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2EDD-41DB-4AEB-A5AF-64873D1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22715-3B7D-42C2-8C12-300056D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27286-C334-4EC6-A14B-C0E2963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763C1-09C7-4AED-9B06-FBC6BD06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71112-279F-403A-ADB5-EB5A3140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A4231-5637-45FF-A0DF-C06A6FEB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A64A9-1D44-431D-977F-525C2D69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1F469-9276-4A31-B866-DEF7FCCB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8C78B-5BEF-4136-82E0-BAB09C8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4ED7E-D895-48A1-BFE4-707D9152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C5CB4-600D-416D-9644-FA70F6D7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B23CA-1194-47E0-B197-BF7A602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10B21-2419-4ED8-B4B0-AE8A78E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0046-5851-4C44-87EC-4E78D30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B0C7-7D6D-4F1A-8795-1731CC7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4CBA6-0EEF-439C-8E2F-6555C35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555D1-944C-4426-83FE-025DE4A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320B5-1ADD-4508-A2F7-3CA7375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C48FC-D74D-4E97-8065-2D97F6B0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2AB4D-24BC-4767-A4B3-73138ADF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CB648-A5FD-4757-BA00-47F1949E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8ED3A-97C9-401B-AD5B-03391AE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B322E-11ED-41AE-AB05-F70A3C6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11285-8BFD-4563-B68A-0125FA2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40EAA-5649-4161-B7C6-751FC338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F65F-D7FD-4FCD-A96D-AC367E8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04D7D-D4C6-4A59-A8D6-92810822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75C45-9CF5-438D-B46D-D87AB10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4998F-8224-4CFD-9B7C-83019BE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69532-28EC-4B81-809A-ECEB4508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B1E63-0740-49C9-A345-924AF8B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3AD9D-188E-4C02-82C7-E5B40E28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8211F-28B2-4265-8095-81C5B485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443AE-9482-4032-8528-E87BAB6B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8D032-3077-4803-8B50-C317054F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B1E97-900E-467A-909E-C5CE66D6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245F5-D33C-4D45-A791-671AB463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597EE-C30A-451D-B3F6-27BF7367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F8C44-9A52-409E-A1DC-19E1E38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9B2C6-ECB5-43E7-93A5-92DE4FC0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DC7C5-6683-4A9B-B47E-F161230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0654C-BA9B-4485-8E6A-FD3F01F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6EB1C-C856-450B-91C5-2119EA6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FB987-3CFE-4E12-8ACA-D0F2D81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AEB0B-C98E-4A8B-8B20-50DE8016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60872-3377-4B6A-A7C7-A6B52D38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E41EC-B5FE-4C8F-8453-D604234E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09FE7-8076-47B9-AF76-0EB1D9B7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CDBBD-1536-4A70-9AAE-ADB186C4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201C4-136D-42CA-AD63-C982CE6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29A3C-CA5B-4618-B36C-8FDABCAF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9D48A-3667-4E03-A6E7-2839D677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74982-34F4-498D-8C8B-AE9E588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35431-8B86-440B-9602-6F524C7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15B99-41C9-46A4-A387-D891E8D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D319B-67ED-4166-9108-FE898E4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A3E87-8375-4BA1-9459-CECF603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8E253-884A-400B-AD67-8465AC84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91E88-9575-4B64-B282-0C04926F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C0B29-D50C-4187-AEAE-D2632D6C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7AA3B-34B3-4EC0-AE15-CC2DB262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B91DC-8209-4927-A9C2-619A814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6479D-4A00-437A-BC40-50340E41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FA5E1-05B0-46EC-A1A1-B7C17A76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168C8-113E-4862-AEA6-DD3837E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BFF39-2EA4-4FB9-AF02-AF0E1B62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C88C5-B79D-4353-8309-2800F3B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9E62D-6A2C-46D7-BE75-9AC153A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F9752-7697-4817-8A1B-19DBA94C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58D74-3FB6-4C78-BB11-8FAAEF66AE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069F9-18C5-4127-9261-A0777E87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C4E9C-93B2-4CBE-9B60-7B6FBAC7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056CA-856B-42BA-A2BA-6BD2956C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6A05A-1DF3-46C1-833E-5C41D1DC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C7D1A-80D4-4FD2-B64B-EE808993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5DBC9-D6DA-4DD3-833E-1108786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13E89-D760-4C57-94FB-6AE050B4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9B5E4-1522-4490-BB7E-FEC51AC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D51F5-78EC-4140-8214-D4E9320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93013-C251-42D3-B8F1-660AFA7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2FC03-412E-4786-BF00-E9872427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D4EBB-0CAE-481F-92B0-174DE62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9FFBD-13A9-47B4-849B-879BA86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814F0-17D7-4BA8-817B-375D1566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61726-6A80-4EEA-AAFD-17F67709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0C263-8CA4-491A-A1CA-C87DE2FB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54B71-923A-4F15-9864-8C52FDDB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AE457-D6B3-42C5-9E13-9B713E75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C3415-2F7D-4C0B-8924-04C9AC8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02C4E-D9F5-4D5C-8393-CBD44324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17888-853E-4E5B-8BD6-8175A480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51F8F-3F21-407E-844B-6DC9670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D091D-2A60-4CF5-A41B-0A5D64B2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C009D-081F-46C2-9FD9-31E5242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B5EF4-9C64-4F14-A68E-3A0AF10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D54B6-D6B0-4BE7-9B97-BA1CCF3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020FC-909C-499B-93CB-114C8D6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014B1-3E98-4D47-A43F-97AD2BE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9D4B6-B699-482C-9602-54B01347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99378-7292-4CB7-8C89-746E9750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CD182F-E205-4A70-AA82-BABD9FB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8264A-AE07-45A9-83C9-0C8BFB8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5EAEF-286D-458E-BDDE-4CCFABA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9D01F-92F0-48DD-9C40-02B10D6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84F78-319C-4A5E-B08A-848A54BC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DC15E-D843-4999-A30C-C3CF51D1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EE340-CBCA-4C94-95F0-E3AA2EF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A646B-70CD-4F74-954B-3B9C59B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21C40-CF9E-4956-9BAD-2ED3D70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B179B-0A76-4903-BFC3-9874F23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61CCD-96BD-4FAF-8136-ADD90319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8D26B-4AC8-4A3B-BDBA-EB9313A6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D82B8-E7C1-4092-848E-06A2FE3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DAC9-9230-4A87-A8AC-7972A71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AC9F5-7018-483B-AE9D-A23D534A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FCAD2-7F62-4EEE-A9D1-CC80F04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346C0-51BE-407E-92C4-627C0AB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05A81-E399-45A4-8BD4-67AC6F3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D8739-8315-42A4-8642-6FFEAC00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2C2B9-1138-4EF3-82CC-8C04CCF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6F65F-6C56-426E-8EBF-F10CE9F6B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7888-F95F-4669-B99B-B44711891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CBE6-A930-48EE-803F-5A046988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D532-6BA3-4A3F-89F4-927C67C6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EAD4-9AF2-4F26-AFF4-EE207D3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884B-A2ED-4D59-876A-505AF09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26AE-030C-4FE3-874F-0A32B20E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F3CF-E256-4044-9B2A-B682ECAE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3B27-9D63-4D96-ABB7-F587DB83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DDF2-8130-4DA0-A300-3868DB0A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EF42-0F53-4F81-96B7-0BC405C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07D0-34B2-442B-9F5C-1534D70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620B-B09A-4AF1-BBC8-311B158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3ECE-C217-4DC6-8259-313BA7520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98DED-C050-41F8-9E2B-414EA131E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1054-FAAB-4EDC-B527-8009294A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D8BE2-DC83-4121-9050-156B81C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BAFD4-6E42-47FB-BDFE-D7D0B94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47FF6-203D-40F3-A4E7-C1B928BB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349C8-6917-4C39-BE4F-DBD47EE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16748-6C05-45F2-BA0C-E0BA716D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354D2-1E92-4BD2-BC2F-7FF586D6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9557E-6FCA-4167-826F-89DAF4ED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962E2-C10B-40D4-9CA1-6A45535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FC3A6-D599-48EF-ACA8-A47E61D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1E910-6952-49C3-AD1A-FB84389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E508-90C8-4BDF-965E-12BA8E0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FA4EA-8060-4F5E-BE94-89A96E4BA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E2509-5162-4121-83BD-997620F704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C4B071-F53D-43DF-B0D8-FB336AC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D03A0F-C5A5-4B54-89F7-881320F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3852A-9A6A-43FD-B873-D680D2E1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DF1E6-33EC-49F9-B5B2-4654AA1A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CB04D-6626-4424-9638-8BBC550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34E42-0650-47E2-99B4-082D003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D70BF-3E8A-403F-88BE-2426FE9C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6E696-51D2-49C4-9BE5-A34FD105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CDD8-81A9-4694-87C5-C18342B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913257-ABD8-4F8A-B3C1-E574DB7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CE384-5F11-4A97-9187-88FD861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3F567F-0094-4190-BC55-AA3050908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7AFF-2527-4A9F-B450-366FA3919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7663D-CAB4-4F7F-A869-88C24DDE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DDE3-614D-46F0-B71C-CA66957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CDA8-181E-4D11-936F-660ABE2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5B66-9C7E-450F-BC9C-314C8E75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B1EF-0627-43D2-AF12-A96CC29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552A-22D0-4040-B3B3-74CF382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1931-1652-43F4-8F3B-1C7D9A2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2F27-6E5F-4347-9090-18D8665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8380-85AB-4F46-817B-17D3CC9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D81A6-025A-4537-AE32-7624E994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983C7-AD89-4D62-9346-E22A485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200B-1DA8-45ED-8417-CDD8C8BDA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DCB31-CB05-43D1-8F5D-42FA62066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22F2B-9802-4C03-B9F2-D5ECAD2E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7A8FC-B695-44F4-90A9-DBF97AA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43B71-C90D-4B1E-BC91-33C9538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1E649-8566-404A-B6ED-4B71B900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DB1F-B724-42BB-B910-95C1AD75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BD872-4324-4147-9AC7-AE16F5AA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FEEC1-FE0D-4C5F-8560-FF113C2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34DC2-A082-47AB-B2DB-3E02AAF3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7C048-D3FA-4DA3-B395-132DE541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CDCD9-24CB-45AE-9068-52834805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E8BDC-4EA8-41E1-90EE-1E5A601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9CA8F-8DFE-4304-ADC1-CF7DDFBDC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4D8DCC-A990-44CB-8B5D-575FB3C9A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86567-11CB-4C3C-9F42-E1066010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41ECBC-4DC3-4DFB-973C-B44EF7CD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032-981A-46A0-9926-21108CA55D4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ABD-EB3D-4B11-944F-E081E61B0C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4BF0-9238-4FBF-9DD6-430A23F98A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DE6-7B5D-421D-9BC5-F4B36ED056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FA0D-FF5D-4EDA-B497-CA6097BCEA6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81F-D040-4A73-89DC-A5BE48C061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ADC4-1565-43EF-9494-DAE3C3DBE9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59A-5CD1-4C12-858B-E6D1FD1CFE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7F7A-9733-4045-9C2F-D01A5F1EF1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B25-50EF-4980-8379-5E2ECA6FB5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D8A-18B9-428B-B0B8-B8B7F4F211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EEF6-6871-46F9-AACD-898EDE8739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FF56-E513-4F38-8A2D-D28E33879C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9F05-902A-4BBC-8401-B5179CE6C0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296-098F-4707-992E-72743CC0D4A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D426-4614-4AC7-96DE-B5341BA48A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C481-F7D2-471C-ADF2-F9F2191ED7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42E1-8710-458B-A926-8F3EE65608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990C-7CE3-4522-B1EA-B42842B7CD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120F-7287-43A9-B202-FEFEDBE3BF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456-FC35-4A08-A033-0A2EAC27B4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6619-B6C4-4BCD-A119-600BE0ADE6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FB5-E583-4A3E-A0B6-2DF25C1F91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10E0-83E7-4BA9-846C-5B5D00BF59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49600" y="2795760"/>
            <a:ext cx="646200" cy="53496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和 复 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"/>
          <p:cNvSpPr/>
          <p:nvPr/>
        </p:nvSpPr>
        <p:spPr>
          <a:xfrm>
            <a:off x="714240" y="12142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一一得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2"/>
          <p:cNvSpPr/>
          <p:nvPr/>
        </p:nvSpPr>
        <p:spPr>
          <a:xfrm>
            <a:off x="714240" y="185724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一二得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"/>
          <p:cNvSpPr/>
          <p:nvPr/>
        </p:nvSpPr>
        <p:spPr>
          <a:xfrm>
            <a:off x="714240" y="250020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4"/>
          <p:cNvSpPr/>
          <p:nvPr/>
        </p:nvSpPr>
        <p:spPr>
          <a:xfrm>
            <a:off x="714240" y="314316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5"/>
          <p:cNvSpPr/>
          <p:nvPr/>
        </p:nvSpPr>
        <p:spPr>
          <a:xfrm>
            <a:off x="714240" y="378612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6"/>
          <p:cNvSpPr/>
          <p:nvPr/>
        </p:nvSpPr>
        <p:spPr>
          <a:xfrm>
            <a:off x="714240" y="44290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7"/>
          <p:cNvSpPr/>
          <p:nvPr/>
        </p:nvSpPr>
        <p:spPr>
          <a:xfrm>
            <a:off x="2071800" y="185724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二二得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8"/>
          <p:cNvSpPr/>
          <p:nvPr/>
        </p:nvSpPr>
        <p:spPr>
          <a:xfrm>
            <a:off x="2071800" y="250020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9"/>
          <p:cNvSpPr/>
          <p:nvPr/>
        </p:nvSpPr>
        <p:spPr>
          <a:xfrm>
            <a:off x="2071800" y="314316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0"/>
          <p:cNvSpPr/>
          <p:nvPr/>
        </p:nvSpPr>
        <p:spPr>
          <a:xfrm>
            <a:off x="207180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1"/>
          <p:cNvSpPr/>
          <p:nvPr/>
        </p:nvSpPr>
        <p:spPr>
          <a:xfrm>
            <a:off x="207180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12"/>
          <p:cNvSpPr/>
          <p:nvPr/>
        </p:nvSpPr>
        <p:spPr>
          <a:xfrm>
            <a:off x="3429000" y="250020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3"/>
          <p:cNvSpPr/>
          <p:nvPr/>
        </p:nvSpPr>
        <p:spPr>
          <a:xfrm>
            <a:off x="3429000" y="314316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14"/>
          <p:cNvSpPr/>
          <p:nvPr/>
        </p:nvSpPr>
        <p:spPr>
          <a:xfrm>
            <a:off x="342900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5"/>
          <p:cNvSpPr/>
          <p:nvPr/>
        </p:nvSpPr>
        <p:spPr>
          <a:xfrm>
            <a:off x="342900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16"/>
          <p:cNvSpPr/>
          <p:nvPr/>
        </p:nvSpPr>
        <p:spPr>
          <a:xfrm>
            <a:off x="4786200" y="314316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7"/>
          <p:cNvSpPr/>
          <p:nvPr/>
        </p:nvSpPr>
        <p:spPr>
          <a:xfrm>
            <a:off x="4786200" y="378612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8"/>
          <p:cNvSpPr/>
          <p:nvPr/>
        </p:nvSpPr>
        <p:spPr>
          <a:xfrm>
            <a:off x="4786200" y="44290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9"/>
          <p:cNvSpPr/>
          <p:nvPr/>
        </p:nvSpPr>
        <p:spPr>
          <a:xfrm>
            <a:off x="614376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0"/>
          <p:cNvSpPr/>
          <p:nvPr/>
        </p:nvSpPr>
        <p:spPr>
          <a:xfrm>
            <a:off x="614376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1"/>
          <p:cNvSpPr/>
          <p:nvPr/>
        </p:nvSpPr>
        <p:spPr>
          <a:xfrm>
            <a:off x="750096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六六三十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22"/>
          <p:cNvSpPr/>
          <p:nvPr/>
        </p:nvSpPr>
        <p:spPr>
          <a:xfrm>
            <a:off x="785880" y="26002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三得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3"/>
          <p:cNvSpPr/>
          <p:nvPr/>
        </p:nvSpPr>
        <p:spPr>
          <a:xfrm>
            <a:off x="2143080" y="26002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24"/>
          <p:cNvSpPr/>
          <p:nvPr/>
        </p:nvSpPr>
        <p:spPr>
          <a:xfrm>
            <a:off x="3500280" y="26002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三得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5"/>
          <p:cNvSpPr/>
          <p:nvPr/>
        </p:nvSpPr>
        <p:spPr>
          <a:xfrm>
            <a:off x="785880" y="32148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四得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6"/>
          <p:cNvSpPr/>
          <p:nvPr/>
        </p:nvSpPr>
        <p:spPr>
          <a:xfrm>
            <a:off x="214308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四得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27"/>
          <p:cNvSpPr/>
          <p:nvPr/>
        </p:nvSpPr>
        <p:spPr>
          <a:xfrm>
            <a:off x="350028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四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8"/>
          <p:cNvSpPr/>
          <p:nvPr/>
        </p:nvSpPr>
        <p:spPr>
          <a:xfrm>
            <a:off x="478620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四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9"/>
          <p:cNvSpPr/>
          <p:nvPr/>
        </p:nvSpPr>
        <p:spPr>
          <a:xfrm>
            <a:off x="785880" y="3857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五得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0"/>
          <p:cNvSpPr/>
          <p:nvPr/>
        </p:nvSpPr>
        <p:spPr>
          <a:xfrm>
            <a:off x="214308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五一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1"/>
          <p:cNvSpPr/>
          <p:nvPr/>
        </p:nvSpPr>
        <p:spPr>
          <a:xfrm>
            <a:off x="350028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五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2"/>
          <p:cNvSpPr/>
          <p:nvPr/>
        </p:nvSpPr>
        <p:spPr>
          <a:xfrm>
            <a:off x="478620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五二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3"/>
          <p:cNvSpPr/>
          <p:nvPr/>
        </p:nvSpPr>
        <p:spPr>
          <a:xfrm>
            <a:off x="6143760" y="38862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五二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4"/>
          <p:cNvSpPr/>
          <p:nvPr/>
        </p:nvSpPr>
        <p:spPr>
          <a:xfrm>
            <a:off x="785880" y="45007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六得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5"/>
          <p:cNvSpPr/>
          <p:nvPr/>
        </p:nvSpPr>
        <p:spPr>
          <a:xfrm>
            <a:off x="2143080" y="4500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六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6"/>
          <p:cNvSpPr/>
          <p:nvPr/>
        </p:nvSpPr>
        <p:spPr>
          <a:xfrm>
            <a:off x="3500280" y="4500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六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7"/>
          <p:cNvSpPr/>
          <p:nvPr/>
        </p:nvSpPr>
        <p:spPr>
          <a:xfrm>
            <a:off x="4786200" y="45007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六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8"/>
          <p:cNvSpPr/>
          <p:nvPr/>
        </p:nvSpPr>
        <p:spPr>
          <a:xfrm>
            <a:off x="6143760" y="45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六三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7" name="圆角矩形 4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9" name="椭圆 4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43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44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4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6:00Z</dcterms:created>
  <dc:creator/>
  <dc:description/>
  <dc:language>en-US</dc:language>
  <cp:lastModifiedBy>万润仪器贸易公司</cp:lastModifiedBy>
  <dcterms:modified xsi:type="dcterms:W3CDTF">2020-08-21T00:34:4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